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0949-531D-4B4F-9883-FB4FDC7356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589F-86EB-4C8E-97BE-95D66C4587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DC19-8F39-419B-8699-50BAA36DB4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D923-E683-4EFC-A237-18AA0F2FCE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C596-EC9A-4300-B3AB-4B80E1800A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6F4C-94BB-4D58-9314-15D9360914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142B-E76D-4F91-89C7-D8DD6E8060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B3C7-C2AC-4673-A685-522CC34B5D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843E-8182-4473-8D2B-B6A175667E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20D7-C472-4DA9-A1EE-AFFD08FB95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2E15-909A-4ABF-9233-52277EE9D9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64FC-1D30-4CF9-A138-2F7441B074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CC48-861F-4411-8FE0-3DE3965F5B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C4A7-5A29-400F-8127-A7AD68E36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454C-BBBD-4F72-B6A3-9F8C785F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A4C3-085F-4407-9BC6-A1C16087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FF3B-2CB0-40C9-A54E-271D5E36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7BBE-8A46-45B3-B056-4FB67CE23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4B82-22B1-4EA8-9114-1B2C89BE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1305-5F60-46D5-9AB4-B86EE666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6B16-1124-4BCD-A75D-BB79BD58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3AE0-6678-4E94-B4C2-9367E140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F315-5E1F-416C-9108-31FA604D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CD4F-C0C8-48B1-B936-FC8639C0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BF25-07BF-461A-AE7D-8D9C8BAA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1F45-E110-461C-8AFE-DCB77DDD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728C-6185-4ADB-AED9-DE2431D5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20C8-3679-4333-9344-15FD1A5E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126A-BE27-47DB-95A0-E233A95B1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6F44-69DC-42AE-A483-94300539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2526-8AA5-467F-8046-4E087B52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68DE-C634-42CA-A5D5-3311D685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CB57-3115-4787-9493-95459BFD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1232-84F9-46E3-940D-CCBF824D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78A6-FF4B-43D7-B282-0C887FD2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A686-6EAA-482A-B1D9-BABCEC30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F29B-E8C7-43F1-A89E-93CEC79F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BA9B-3806-4EAD-B91A-CBE4675136D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15FB-D43D-409B-8932-EBABB5D5735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6920" y="3068640"/>
            <a:ext cx="78710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330066"/>
                </a:solidFill>
                <a:latin typeface="Arial"/>
              </a:rPr>
              <a:t>Правила и нормы эффективного общения</a:t>
            </a:r>
            <a:br>
              <a:rPr sz="4000"/>
            </a:br>
            <a:br>
              <a:rPr sz="3500"/>
            </a:b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Базалий Р.В. –доцент кафедры ТиМПО, канд.пед.наук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успешное ведение переговоров"/>
          <p:cNvPicPr/>
          <p:nvPr/>
        </p:nvPicPr>
        <p:blipFill>
          <a:blip r:embed="rId1"/>
          <a:stretch/>
        </p:blipFill>
        <p:spPr>
          <a:xfrm>
            <a:off x="179280" y="404640"/>
            <a:ext cx="87138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ак аудитория воспринимает твое общение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6" name="Picture 4" descr="как аудитория воспринимает твое общение"/>
          <p:cNvPicPr/>
          <p:nvPr/>
        </p:nvPicPr>
        <p:blipFill>
          <a:blip r:embed="rId1"/>
          <a:stretch/>
        </p:blipFill>
        <p:spPr>
          <a:xfrm>
            <a:off x="1042920" y="1484280"/>
            <a:ext cx="67676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8" name="Picture 4" descr="ten3_polls_communication_2sl_6x4"/>
          <p:cNvPicPr/>
          <p:nvPr/>
        </p:nvPicPr>
        <p:blipFill>
          <a:blip r:embed="rId1"/>
          <a:stretch/>
        </p:blipFill>
        <p:spPr>
          <a:xfrm>
            <a:off x="755640" y="1197000"/>
            <a:ext cx="72723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«Смысл общения не в том, какое сообщение ты посылаешь, а в том, какой ответ ты получаешь».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ты получил не тот ответ, к которому стремился, значит ты послал неправильное сообщение. Постарайся изменить свое сообщение таким образом, чтобы получить тот ответ, который тебе нужен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Зна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чего ты хочеш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аскро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стинный смысл ответа, который ты получаеш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змен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свое сообщение, пока не достигнешь желаемого результа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Наше восприятие мира не есть сам мир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ы видим мир не таким, каков он есть, а таким, каким он нам кажется через призму наших верований, знаний и системы ценностей, пройдя предварительно через другую призму органов чувств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ще одна проблема человека в общении с другими- это нежелание понять позицию собеседник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3" name="Picture 4" descr="communication_reality_map_6x4_ru"/>
          <p:cNvPicPr/>
          <p:nvPr/>
        </p:nvPicPr>
        <p:blipFill>
          <a:blip r:embed="rId1"/>
          <a:stretch/>
        </p:blipFill>
        <p:spPr>
          <a:xfrm>
            <a:off x="468360" y="981000"/>
            <a:ext cx="84978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ПАСИБ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ужно уметь благодарить люде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0" lang="ru-RU" sz="3000" spc="-1" strike="noStrike">
                <a:solidFill>
                  <a:srgbClr val="6666ff"/>
                </a:solidFill>
                <a:latin typeface="Arial"/>
              </a:rPr>
              <a:t>спасибо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тивирует людей  на достижение чего-то более высокого. И наоборот, "пинок под зад заставляет почесать ушибленное место, но не приближает к желаемому результату", как говорила Элла Виле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719360"/>
          <a:ext cx="8229600" cy="480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самых важных сл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совершил ошибку и признаю эт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самых важных сл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 сделал очень хорошую работ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амых важных слов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всегда рад помоч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амых важных слов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во твое мнение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амых важных слов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е спасиб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амое важное слов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наименее важное слов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543800" cy="126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Грасиан Бальтасар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9" name="Picture 4" descr="Грасиан Бальтасар"/>
          <p:cNvPicPr/>
          <p:nvPr/>
        </p:nvPicPr>
        <p:blipFill>
          <a:blip r:embed="rId1"/>
          <a:stretch/>
        </p:blipFill>
        <p:spPr>
          <a:xfrm>
            <a:off x="1332000" y="1413000"/>
            <a:ext cx="56163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ысказывания Гарсиана Бальтасара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икогда не спеши и не горячись. Научись управлять собой, тогда сможешь управлять другими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гда ведешь разговор или спор, веди его так, как если бы ты играл в шахмат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творное сомнение – наилучший ключик, с помощью которого любопытство раскрывает все, что пожелает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всегда возражай на возражения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ерегово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ажным фактором успешного общения является умение вести переговор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0:22:22Z</dcterms:created>
  <dc:creator>Будашкина Екатерина</dc:creator>
  <dc:description/>
  <dc:language>en-US</dc:language>
  <cp:lastModifiedBy>Базалий Раиса Викторовна</cp:lastModifiedBy>
  <dcterms:modified xsi:type="dcterms:W3CDTF">2015-12-10T06:31:21Z</dcterms:modified>
  <cp:revision>4</cp:revision>
  <dc:subject/>
  <dc:title>Правила и нормы эффективного общения.</dc:title>
</cp:coreProperties>
</file>