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627A-16BD-4DB2-84E7-1E1EC54258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DD7C-331D-45CD-B32F-044870E663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236-C387-43BD-AC04-70798E37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707-2CA3-4EFC-81AF-A6780B91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06E-B6D0-4101-92EB-B2068FCB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5B9-1FD1-4B83-8727-36EDDA56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2985-AD7F-4FE7-A6B8-DC5C8E1C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E070-4007-422F-9A75-378B186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5FE6-C3A5-4066-8885-F38238B3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8AD3-7B60-4425-8EDE-2DA3B48E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5990-5F93-44DC-82DD-EFD6F0C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06C5-F983-4280-A05F-8529C980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A137-B252-4819-8C14-5AA65770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949-9108-451F-A3EC-2A59C68A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ADFC-ECAA-48A9-8C33-44EE2CC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7CAB-2509-410E-8B2D-B44C8ED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FFF4-A730-47B7-96FC-40A0321A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B190-DAB2-4839-8F6E-03C13D84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A8E0-5000-4A6E-93FA-10ECFC13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26EC-ADB2-42EE-A1B8-7E3A23F8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4E6A-27A7-4612-9EA0-C82F5B2F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9799-5C0F-4C80-95A7-E4DAB64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03F3-6EAA-4DF4-B04D-6C63418D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DE6B-99C0-412D-A819-809D9AB9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085-8B38-4B40-B0F8-7713C054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22A9-F8FC-4B99-92FE-8D7D6951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3567-DCD0-464B-9E0F-ABBA32B8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7204-8C69-407C-B986-CFD9F5A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52F9-3A03-4B8F-9754-04E371E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AA2C-7096-44BC-803C-FF76FA7E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DFE8-D80D-4A58-B3A7-8D095A32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F1C5-5F5F-4626-B940-26A39AE5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49F7E-1FBB-41E4-816F-A90FC178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C0889-A0D9-45C6-86A1-95F4A0E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DD5D5-EC19-4C50-AABF-63806D28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5FB-BE95-4811-B84F-0FF2B330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190EF-5A0B-47D4-89C6-DA7F6FCF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E0110-289E-46FE-895C-3C2E99DD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7EDC37-2433-4F37-B6AC-BBDD4E62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E15CB-F2D4-4E64-8DC6-AB9BFA3B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E384D-0289-4373-A07E-6E673FE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84781-67A5-4DB0-8723-03BAE26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EFEE4B-1AD4-41A1-9A1B-E7715EA8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17BF41-34A0-4B8C-A43A-A2434127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BE2A0-C4A4-41AF-9394-E8080D23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6B1C-68A1-444F-B042-C1FF49D2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537-7B32-447D-98E4-3AB7A6C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F7F2E-66A3-4586-9A37-1A060F37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F913-EBB3-44D5-A201-08935B91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317B6-42F5-4B8A-9EF1-A0986018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FBF4-4028-4FDA-A882-A36753D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D8828-C0DD-41E2-91A5-80F2FA5F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41A0C-B500-493B-B287-541E652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448E-2E5F-4549-9754-E5D21BF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DF408-BCAC-417E-BDB4-D1FAC396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7353E-C3A7-4E09-BBD9-867DDA19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27C60-A6EE-49CF-A3C5-682C4EFE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156-9DA7-42E7-BFD3-EEAC7724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090CC-ABB7-44B1-A31A-2FBC8BF0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AE0D-A93D-48EE-888A-695D8909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9B63C-1399-49A2-8856-4130FC16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06B3-2412-464B-A138-2B944F68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AE35A-85BE-4514-A742-BB2949DB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6C854-A83F-4DE3-8ED1-C3741116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443C-22CB-474E-9C5D-48972FA4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603CC-B27F-4054-A971-37669EE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4DFC6-1194-4774-88D4-4A9B25DC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B76AA-D1D6-4740-A9E2-6E44C66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4A7-69D3-4F2E-8E29-D7516C30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02780-D741-4074-8B46-320C7D39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2868E-EABF-44A3-A45B-581F10E7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BEEA-9822-45CE-82E8-7C505395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5EE-6A64-48EC-927D-DC40C2FC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1E18-9071-4830-A37E-BABDBDB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FB5B-EF7B-4BCC-9DD5-6DF21E5301A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68EF-4022-4673-BF9D-F61D5524171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0946-6421-40D8-8FC7-B89E06D33CC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7DAB-A1FD-43F2-B444-B5740D87BB3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7B3E-55FC-4862-B173-308047449D2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CF0-BEC4-444F-8ECB-C3735DC004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2368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2"/>
          <p:cNvSpPr/>
          <p:nvPr/>
        </p:nvSpPr>
        <p:spPr>
          <a:xfrm>
            <a:off x="6300720" y="458136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40320" y="-558360"/>
            <a:ext cx="5875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7" name="Рисунок 4" descr="10419289.jpg"/>
          <p:cNvPicPr/>
          <p:nvPr/>
        </p:nvPicPr>
        <p:blipFill>
          <a:blip r:embed="rId1"/>
          <a:stretch/>
        </p:blipFill>
        <p:spPr>
          <a:xfrm>
            <a:off x="450720" y="195120"/>
            <a:ext cx="4956480" cy="56754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87600" y="3274920"/>
            <a:ext cx="2590920" cy="2516400"/>
          </a:xfrm>
          <a:prstGeom prst="rect">
            <a:avLst/>
          </a:prstGeom>
          <a:noFill/>
          <a:ln w="0">
            <a:noFill/>
          </a:ln>
        </p:spPr>
        <p:txBody>
          <a:bodyPr lIns="0" rIns="4572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ЕМЫ ОРАТОРСТВА ВЕЛИКИХ ЛЮДЕЙ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9" descr="D:\Документы\ДНУ\5 курс\міжнародний менеджмент\btkioobama.jpg"/>
          <p:cNvPicPr/>
          <p:nvPr/>
        </p:nvPicPr>
        <p:blipFill>
          <a:blip r:embed="rId1"/>
          <a:stretch/>
        </p:blipFill>
        <p:spPr>
          <a:xfrm>
            <a:off x="142920" y="1071720"/>
            <a:ext cx="3905280" cy="2962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D:\Документы\ДНУ\5 курс\міжнародний менеджмент\610x.jpg"/>
          <p:cNvPicPr/>
          <p:nvPr/>
        </p:nvPicPr>
        <p:blipFill>
          <a:blip r:embed="rId2"/>
          <a:stretch/>
        </p:blipFill>
        <p:spPr>
          <a:xfrm>
            <a:off x="2071800" y="500040"/>
            <a:ext cx="2643120" cy="3414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D:\Документы\ДНУ\5 курс\міжнародний менеджмент\OB-DC400_0209ob_G_20090209202427.jpg"/>
          <p:cNvPicPr/>
          <p:nvPr/>
        </p:nvPicPr>
        <p:blipFill>
          <a:blip r:embed="rId3"/>
          <a:stretch/>
        </p:blipFill>
        <p:spPr>
          <a:xfrm>
            <a:off x="1714680" y="3425760"/>
            <a:ext cx="5143320" cy="343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D:\Документы\ДНУ\5 курс\міжнародний менеджмент\116.jpg"/>
          <p:cNvPicPr/>
          <p:nvPr/>
        </p:nvPicPr>
        <p:blipFill>
          <a:blip r:embed="rId4"/>
          <a:stretch/>
        </p:blipFill>
        <p:spPr>
          <a:xfrm>
            <a:off x="5572080" y="4071960"/>
            <a:ext cx="3429000" cy="260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D:\Документы\ДНУ\5 курс\міжнародний менеджмент\Barack Obama Capitol.jpg"/>
          <p:cNvPicPr/>
          <p:nvPr/>
        </p:nvPicPr>
        <p:blipFill>
          <a:blip r:embed="rId5"/>
          <a:stretch/>
        </p:blipFill>
        <p:spPr>
          <a:xfrm>
            <a:off x="0" y="4000680"/>
            <a:ext cx="2286000" cy="2857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D:\Документы\ДНУ\5 курс\міжнародний менеджмент\obama.jpg"/>
          <p:cNvPicPr/>
          <p:nvPr/>
        </p:nvPicPr>
        <p:blipFill>
          <a:blip r:embed="rId6"/>
          <a:stretch/>
        </p:blipFill>
        <p:spPr>
          <a:xfrm>
            <a:off x="4965840" y="1357200"/>
            <a:ext cx="4178160" cy="2786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D:\Документы\ДНУ\5 курс\міжнародний менеджмент\b40e48f4a1.jpg"/>
          <p:cNvPicPr/>
          <p:nvPr/>
        </p:nvPicPr>
        <p:blipFill>
          <a:blip r:embed="rId7"/>
          <a:stretch/>
        </p:blipFill>
        <p:spPr>
          <a:xfrm>
            <a:off x="3929040" y="14292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емы Барака Оба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14240" y="2643120"/>
            <a:ext cx="746784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Язык жест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Правило 3 пунктов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Личные истории и повтор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D:\Документы\ДНУ\5 курс\міжнародний менеджмент\picture_1.jpg"/>
          <p:cNvPicPr/>
          <p:nvPr/>
        </p:nvPicPr>
        <p:blipFill>
          <a:blip r:embed="rId1"/>
          <a:stretch/>
        </p:blipFill>
        <p:spPr>
          <a:xfrm>
            <a:off x="785880" y="214200"/>
            <a:ext cx="2475000" cy="3191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D:\Документы\ДНУ\5 курс\міжнародний менеджмент\steve-jobs-carry-ipad.jpg"/>
          <p:cNvPicPr/>
          <p:nvPr/>
        </p:nvPicPr>
        <p:blipFill>
          <a:blip r:embed="rId2"/>
          <a:stretch/>
        </p:blipFill>
        <p:spPr>
          <a:xfrm>
            <a:off x="5160960" y="3216240"/>
            <a:ext cx="3983040" cy="364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D:\Документы\ДНУ\5 курс\міжнародний менеджмент\billionaires-9_u8kjq_18770.jpg"/>
          <p:cNvPicPr/>
          <p:nvPr/>
        </p:nvPicPr>
        <p:blipFill>
          <a:blip r:embed="rId3"/>
          <a:stretch/>
        </p:blipFill>
        <p:spPr>
          <a:xfrm>
            <a:off x="4071960" y="428760"/>
            <a:ext cx="4572000" cy="31003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:\Документы\ДНУ\5 курс\міжнародний менеджмент\apple_big.jpg"/>
          <p:cNvPicPr/>
          <p:nvPr/>
        </p:nvPicPr>
        <p:blipFill>
          <a:blip r:embed="rId4"/>
          <a:stretch/>
        </p:blipFill>
        <p:spPr>
          <a:xfrm>
            <a:off x="142920" y="3143160"/>
            <a:ext cx="4282920" cy="323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риемы Стива Джоб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5560" y="2500200"/>
            <a:ext cx="7467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Зрительный контакт с аудиторие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Открыт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Жест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747072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)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071880" y="285480"/>
            <a:ext cx="585792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Кто не умеет говорить, тот карьеры не сделает "                                                Наполеон Бонапа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643120" cy="340380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3"/>
          <p:cNvSpPr/>
          <p:nvPr/>
        </p:nvSpPr>
        <p:spPr>
          <a:xfrm>
            <a:off x="0" y="392904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Люди теряют уважение к тем, кто не может говорить как следует, и они проникаются уважением к другим, кто манипулирует словами с необычайной легкостью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Шибут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2928960" y="1643040"/>
            <a:ext cx="621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икакая другая спо обность человека не даст ему возможности с такой быстротой сделать карьеру и добиться признания, как способность хорошо говорит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Деп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2"/>
          <a:stretch/>
        </p:blipFill>
        <p:spPr>
          <a:xfrm>
            <a:off x="6643800" y="3857760"/>
            <a:ext cx="2381040" cy="2904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212760" y="457200"/>
            <a:ext cx="4572000" cy="21146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28760" y="27856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казать, чтобы эти слова были отчетливо сказан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казаны, чтобы они были услышаны, причем, обязательно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услышав, слушатель понял смысл сказанн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4929120" y="285840"/>
            <a:ext cx="3940200" cy="2500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468360" y="1484280"/>
          <a:ext cx="8229600" cy="5110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ровень искусства ор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авляющи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8416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. Владение материало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что говори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Грамотная речь (соблюдение лексических, грамматических, орфоэпических норм русского литературного язы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Словарный зап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Композиция (принципы построе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. Владение соб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как говори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Естественность поведения орат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Техника речи (дикция, темп, интонация, голо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Контакт с аудитори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I. Образ орато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кто говор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Сдержанный внешний 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Положение сидя или ст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Выражение лица (мими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Же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428760" y="1600200"/>
          <a:ext cx="8258040" cy="4255920"/>
        </p:xfrm>
        <a:graphic>
          <a:graphicData uri="http://schemas.openxmlformats.org/drawingml/2006/table">
            <a:tbl>
              <a:tblPr/>
              <a:tblGrid>
                <a:gridCol w="4128840"/>
                <a:gridCol w="4129200"/>
              </a:tblGrid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ступ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ивлечь внимание слушателей, подготовить аудиторию к восприятию основной части; завоевать доверие, симпатию аудитории; вызвать интерес к предме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общить информацию; обосновать 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ммировать сказанное; сделать выводы; закрепить основную мысль в памяти слушателей (повторить вкратце); призвать к действ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28400" y="2928960"/>
            <a:ext cx="46861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ественность повед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ика реч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 с аудитори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2" descr="D:\Документы\ДНУ\5 курс\міжнародний менеджмент\912695_-vse-chto-myi-govorim.jpg"/>
          <p:cNvPicPr/>
          <p:nvPr/>
        </p:nvPicPr>
        <p:blipFill>
          <a:blip r:embed="rId2"/>
          <a:stretch/>
        </p:blipFill>
        <p:spPr>
          <a:xfrm>
            <a:off x="5286240" y="1857240"/>
            <a:ext cx="3687840" cy="483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кция (от лат. dictio – "произнесение") – это произнесение зву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 (от лат. tempus – "время") – это скорость нашей речи, то время, за которое мы произносим наш текст. Нормальный темп русской речи – 120 слов в мину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онация (от лат. intonare – "громко произносить") – важное смыслоразличительное средство языка. Одно и то же предложение, произнесенное с разной интонацией, приобретает разный смыс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 имеет для оратора большое значение. Это индивидуальная характеристика человека, такая же уникальная, как отпечатки пальце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26960" y="139680"/>
            <a:ext cx="82296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28760" y="1643040"/>
          <a:ext cx="8429400" cy="496080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2462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авляющие техники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ритерии оценки речи ора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b1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олож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рица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77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кое произнесение звуков и с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нятное произнесение; дефекты речи; "глотание" звуков и сл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104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нормальный: 120 слов в минуту; 2) умение менять (замедлять или убыстрять) темп при необходи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темп слишком быстрый или слишком медленный, 2) однородный темп на протяжении всего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779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он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ческое разнообразие речи; необходимые логические акценты и пау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одическое однообразие; непредвиденные затянутые пау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4eb"/>
                    </a:solidFill>
                  </a:tcPr>
                </a:tc>
              </a:tr>
              <a:tr h="130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умение менять (повышать и понижать) тон; 2) достаточно громкий (уверенный) голос; 3) приятный гол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монотонный голос (одинаково высокий либо низкий); 2) тихий, неуверенный, затухающий голос; 3) неприятный голос ("крикливый", "хриплый"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5"/>
                    </a:solidFill>
                  </a:tcPr>
                </a:tc>
              </a:tr>
            </a:tbl>
          </a:graphicData>
        </a:graphic>
      </p:graphicFrame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рессия или эмоциональность. Естественные, живые жест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тор смотрит в глаза то нежно, то властно, то весело и легко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ваемая внешность, нередко с элементами эпатаж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жиданные выходки по ходу публичного выступле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ёткая дикция, красивый тембр, хорошая артикуляция.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Ленин в плане дикции был одним из светлых исключений. Отчеканивал слова! Они слышались ясно! Этот великий лидер умел, несмотря на картавость, хватать аудиторию за жабры прямо с броневика. Брал энергетикой!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 говорить громко, не срываясь на визг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3:12:14Z</dcterms:created>
  <dc:creator>RWT</dc:creator>
  <dc:description/>
  <dc:language>en-US</dc:language>
  <cp:lastModifiedBy>Базалий Раиса Викторовна</cp:lastModifiedBy>
  <dcterms:modified xsi:type="dcterms:W3CDTF">2015-12-10T06:28:58Z</dcterms:modified>
  <cp:revision>38</cp:revision>
  <dc:subject/>
  <dc:title>Слайд 1</dc:title>
</cp:coreProperties>
</file>