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413-F79A-4CBF-83D1-026EADC9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57-23FB-4B34-BDBC-9CDDEAC6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B90-C073-4D72-947A-1D1B893F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6B2-AB09-4A01-923D-7EEE8E4D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ECEA-56DF-425C-829F-8A7B20EC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3E70-14AE-4F39-859E-4F0190A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F547-314C-4294-AFC5-56FD6DEA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116-4C1F-48FB-AD7A-7DB1FB6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F82-C5AA-4B6F-A272-EACF6B1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B81C-AE1F-4EAC-8B54-5B95C96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8175-0107-47EB-9B3F-51314CA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174-13CA-4A7F-BDC4-C211DF0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B5E7-2D0A-4EA2-859D-1BE2BFB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A91-93FA-4F38-ABFB-747A812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E046-6C7D-430A-9E43-5DF62617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9FE2-1B84-42CC-B820-D07FC7D2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29B8-2F22-4E91-9150-7542AB8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962-2980-4C7B-8CF5-4EB2E4A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A70-6EF0-4994-8D6C-7952DA73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454-2972-40F2-A5AF-38A4B62B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111-DEBD-4358-86A8-44C5AC32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BF8-7BA1-4D96-A4F7-542343F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564-2412-4B58-AA39-33B09F1B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C0E-9FAD-4A85-BA46-A0ADD0E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30D-AC8B-4B23-8BBB-C57DD63FC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3B20-1C2C-4B79-A2FE-25A6F3079E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98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0" lang="ru-RU" sz="5400" spc="-1" strike="noStrike">
                <a:solidFill>
                  <a:srgbClr val="ffff00"/>
                </a:solidFill>
                <a:latin typeface="Arial Black"/>
              </a:rPr>
              <a:t>Требования к ораторской речи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24360" y="2708280"/>
            <a:ext cx="49687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enuet script"/>
              </a:rPr>
              <a:t>Базалий Р.В. –доцент кафедры ТиМПО, канд.пед.нау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images"/>
          <p:cNvPicPr/>
          <p:nvPr/>
        </p:nvPicPr>
        <p:blipFill>
          <a:blip r:embed="rId1"/>
          <a:stretch/>
        </p:blipFill>
        <p:spPr>
          <a:xfrm>
            <a:off x="1547640" y="4122720"/>
            <a:ext cx="1917720" cy="2552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Основные способы развития        ораторских способностей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08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разговора всл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перед реальной немногочисленной аудитор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зуализ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иодическое повтор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ка перед близкими людь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720orator"/>
          <p:cNvPicPr/>
          <p:nvPr/>
        </p:nvPicPr>
        <p:blipFill>
          <a:blip r:embed="rId1"/>
          <a:stretch/>
        </p:blipFill>
        <p:spPr>
          <a:xfrm>
            <a:off x="3635280" y="2627280"/>
            <a:ext cx="5508720" cy="2602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634716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Контакт с аудиторией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0071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ый контакт с аудиторией-ключевая проблема.Если контакта нет,то теряет смысл само выступ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Оратор1"/>
          <p:cNvPicPr/>
          <p:nvPr/>
        </p:nvPicPr>
        <p:blipFill>
          <a:blip r:embed="rId1"/>
          <a:stretch/>
        </p:blipFill>
        <p:spPr>
          <a:xfrm>
            <a:off x="1692360" y="2492280"/>
            <a:ext cx="6121440" cy="40179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518320" cy="30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« Не всегда говори, что знаешь…но всегда знай, что говоришь..»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                              (с)Клавдий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1" name="Picture 6" descr="hohmodrom_JAJAJAJAJAJAJAJAJAJAJA"/>
          <p:cNvPicPr/>
          <p:nvPr/>
        </p:nvPicPr>
        <p:blipFill>
          <a:blip r:embed="rId1"/>
          <a:stretch/>
        </p:blipFill>
        <p:spPr>
          <a:xfrm>
            <a:off x="539640" y="2421000"/>
            <a:ext cx="2971800" cy="4286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agesссс"/>
          <p:cNvPicPr/>
          <p:nvPr/>
        </p:nvPicPr>
        <p:blipFill>
          <a:blip r:embed="rId2"/>
          <a:stretch/>
        </p:blipFill>
        <p:spPr>
          <a:xfrm>
            <a:off x="3851280" y="3537000"/>
            <a:ext cx="4680000" cy="3132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83851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Arial Black"/>
              </a:rPr>
              <a:t>Ораторским искусством важно овладеть всем, кто по роду занятий, организует работу, ведет деловые переговоры, воспитывает, учит, оказывает различные услуги</a:t>
            </a:r>
            <a:endParaRPr b="1" lang="en-US" sz="28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4" name="Picture 4" descr="title"/>
          <p:cNvPicPr/>
          <p:nvPr/>
        </p:nvPicPr>
        <p:blipFill>
          <a:blip r:embed="rId1"/>
          <a:stretch/>
        </p:blipFill>
        <p:spPr>
          <a:xfrm>
            <a:off x="1763640" y="2565360"/>
            <a:ext cx="5715000" cy="4086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«Красноречие есть искусство покорять умы..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                                          (с)Платон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«Истинное красноречие- это умение сказать все, что нужно, и не больше, чем нужно..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 Black"/>
              </a:rPr>
              <a:t>                                   (с)Ф.Ларошфуко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36" name="Picture 4" descr="2kEeiTnTYH4"/>
          <p:cNvPicPr/>
          <p:nvPr/>
        </p:nvPicPr>
        <p:blipFill>
          <a:blip r:embed="rId1"/>
          <a:stretch/>
        </p:blipFill>
        <p:spPr>
          <a:xfrm>
            <a:off x="395280" y="1662120"/>
            <a:ext cx="4681440" cy="2611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ское искусство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искусство публичного выступления с целью убе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imagesqq"/>
          <p:cNvPicPr/>
          <p:nvPr/>
        </p:nvPicPr>
        <p:blipFill>
          <a:blip r:embed="rId1"/>
          <a:stretch/>
        </p:blipFill>
        <p:spPr>
          <a:xfrm>
            <a:off x="1908000" y="2421000"/>
            <a:ext cx="5328000" cy="4135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44440"/>
            <a:ext cx="76550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ское искусство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гармоничное сочетание риторики, приемов актерского мастерства и психологических тех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x_d2bc43f8"/>
          <p:cNvPicPr/>
          <p:nvPr/>
        </p:nvPicPr>
        <p:blipFill>
          <a:blip r:embed="rId1"/>
          <a:stretch/>
        </p:blipFill>
        <p:spPr>
          <a:xfrm>
            <a:off x="1547640" y="2766960"/>
            <a:ext cx="6120000" cy="3881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2663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Оратор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67920"/>
            <a:ext cx="784872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, профессиона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имающееся искусств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снореч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о,произносящее 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шатай чего-ниб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обладающ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ром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orator_1"/>
          <p:cNvPicPr/>
          <p:nvPr/>
        </p:nvPicPr>
        <p:blipFill>
          <a:blip r:embed="rId1"/>
          <a:stretch/>
        </p:blipFill>
        <p:spPr>
          <a:xfrm>
            <a:off x="5003640" y="1413000"/>
            <a:ext cx="3600720" cy="424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6040" y="0"/>
            <a:ext cx="837396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eec94"/>
                </a:solidFill>
                <a:uFillTx/>
                <a:latin typeface="Arial Black"/>
              </a:rPr>
              <a:t>Ораторское искусство лишь условно называется искусством, в значительной степени- это деятельность, овладеть которой можно,если даже у человека нет для этого особых данных</a:t>
            </a:r>
            <a:endParaRPr b="1" lang="en-US" sz="32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111" name="Picture 6" descr="7dfrFgYK0fQ"/>
          <p:cNvPicPr/>
          <p:nvPr/>
        </p:nvPicPr>
        <p:blipFill>
          <a:blip r:embed="rId1"/>
          <a:srcRect l="0" t="0" r="0" b="15345"/>
          <a:stretch/>
        </p:blipFill>
        <p:spPr>
          <a:xfrm>
            <a:off x="971640" y="2779560"/>
            <a:ext cx="7670880" cy="39625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eec94"/>
                </a:solidFill>
                <a:uFillTx/>
                <a:latin typeface="Arial Black"/>
              </a:rPr>
              <a:t>Требования к ораторской речи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398600"/>
            <a:ext cx="849636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Чистота»   «Уместность» «Логичность»  «Точность» «Образ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Богатство речи»         «Эмоциональность»        «Выразительност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Оратор"/>
          <p:cNvPicPr/>
          <p:nvPr/>
        </p:nvPicPr>
        <p:blipFill>
          <a:blip r:embed="rId1"/>
          <a:stretch/>
        </p:blipFill>
        <p:spPr>
          <a:xfrm>
            <a:off x="684360" y="2205000"/>
            <a:ext cx="8127720" cy="3619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171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Три способа выступления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4869000"/>
            <a:ext cx="8007480" cy="122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– речь официального 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 момент произне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роизведение по памя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Ораторское искусство 6"/>
          <p:cNvPicPr/>
          <p:nvPr/>
        </p:nvPicPr>
        <p:blipFill>
          <a:blip r:embed="rId1"/>
          <a:stretch/>
        </p:blipFill>
        <p:spPr>
          <a:xfrm>
            <a:off x="2484360" y="1268280"/>
            <a:ext cx="3816360" cy="32911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189000"/>
            <a:ext cx="489600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Arial Black"/>
              </a:rPr>
              <a:t>Ораторская речь</a:t>
            </a:r>
            <a:endParaRPr b="1" lang="en-US" sz="40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9106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монологической речи, употребительной в ситуации, когда говорящий обращается к многочисленной аудитории с целью вну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XbearqJ0QSQ"/>
          <p:cNvPicPr/>
          <p:nvPr/>
        </p:nvPicPr>
        <p:blipFill>
          <a:blip r:embed="rId1"/>
          <a:stretch/>
        </p:blipFill>
        <p:spPr>
          <a:xfrm>
            <a:off x="1692360" y="3484440"/>
            <a:ext cx="6048360" cy="33735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Виды ораторского искусства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51280" y="1773000"/>
            <a:ext cx="3182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поли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адем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деб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циально-быто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плома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е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рго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лог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a_82904556"/>
          <p:cNvPicPr/>
          <p:nvPr/>
        </p:nvPicPr>
        <p:blipFill>
          <a:blip r:embed="rId1"/>
          <a:stretch/>
        </p:blipFill>
        <p:spPr>
          <a:xfrm>
            <a:off x="826920" y="1484280"/>
            <a:ext cx="4214880" cy="50576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6T09:49:59Z</dcterms:created>
  <dc:creator>Катерина</dc:creator>
  <dc:description/>
  <dc:language>en-US</dc:language>
  <cp:lastModifiedBy>Базалий Раиса Викторовна</cp:lastModifiedBy>
  <dcterms:modified xsi:type="dcterms:W3CDTF">2015-12-10T06:36:05Z</dcterms:modified>
  <cp:revision>3</cp:revision>
  <dc:subject/>
  <dc:title>       Презентация на тему</dc:title>
</cp:coreProperties>
</file>