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8EB-2595-45AD-98B3-0748603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81B-16D5-4CF1-BA3E-5ACB27C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E0C-5868-45D8-90A1-C0611303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C52-1F08-4D8F-B681-1C29FAB1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9D0A-468E-496C-AEE1-BF87728A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749E-9F89-408E-8E1F-FBFDA307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450-CD5F-4BDE-A5AD-029935F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C339-D1CC-4DBA-B192-24C79DA8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3341-58F2-4907-B701-1F9F1A6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5D4C-C77D-42BD-AAAA-80B6E3D9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4201-3500-494B-98EF-D35F3D5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63D-3C7E-400D-8343-ADBEC19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9F0F-44FC-4264-95CC-944D40A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E93A-E562-4581-815E-B259AC48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7AEC-377E-40D6-99F5-2C603A8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6D9-1156-4EA1-BF44-8BFDDBA3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7F8-333A-4CB4-8621-717BB4A3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6D894-9065-46C0-AB9E-B1FE4DA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C6AF2-2898-496F-879B-5F252DC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4BE53-D503-4771-8E5E-75F91F1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DDCB-9C3E-482B-B2E0-435A412C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CE68-5029-4718-87BE-6AFFBE74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95D-F2EE-4792-8D8F-1FC94840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89DC-AA92-484D-9B25-C1856D08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89EBF-19B9-4D4E-974E-0175DC34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C21D-09F3-4141-9096-123DFF8B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B526-10B8-46D9-8258-04A9E59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F63C-83F9-4403-BA6E-AFAC7EA3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FD0D-9928-4000-8773-3543402E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FEEC9-A37E-4B37-8DF9-DC585278E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DAE-3D14-4AB1-A4F7-4D62D7EF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D98E-E08A-4CE7-A05B-E82BBD41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48F-5CAC-4752-B472-86DCA69C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154-B321-4D49-9CED-A7E39DC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B83-AE10-4925-8B89-633FAE68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938-3823-4A46-9EBD-8C1D3978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DCB1-D4DC-44B7-96E5-C9190F2EB948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1317-C808-4E0B-AB12-87F5457C36F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966-376F-4678-AB58-6F1C6AFCC74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20464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cc"/>
                </a:solidFill>
                <a:uFillTx/>
                <a:latin typeface="Arial Black"/>
              </a:rPr>
              <a:t>ОПРОВЕРЖЕНИЕ ДОВОДОВ ОППОНЕНТА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БАЗАЛИЙ Р.В. –ДОЦЕНТ КАФЕДРЫ ТИМПО, КАНД.ПЕД.НАУК</a:t>
            </a:r>
            <a:br>
              <a:rPr sz="2400"/>
            </a:b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303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СВЕДЕНИЕ К АБСУРДУ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остраненным приемом опровержения является доведение до нелепости или сведение к абсурду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русский адвокат Ф.А.Плевако неоднократно использовал данный прие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1835280" y="3525840"/>
            <a:ext cx="499896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ПРИЕМ БУМЕРАНГ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ольно часто применяется «возвратный удар», или прием бумеранга. Полемический прием заключается в том, что тезис или аргумент обращается против тех, кто их высказал. При этом сила удара многократно увеличивается. Поражение очевид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" descr=""/>
          <p:cNvPicPr/>
          <p:nvPr/>
        </p:nvPicPr>
        <p:blipFill>
          <a:blip r:embed="rId1"/>
          <a:stretch/>
        </p:blipFill>
        <p:spPr>
          <a:xfrm>
            <a:off x="-14400" y="3997440"/>
            <a:ext cx="4608720" cy="2882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"/>
          <p:cNvPicPr/>
          <p:nvPr/>
        </p:nvPicPr>
        <p:blipFill>
          <a:blip r:embed="rId2"/>
          <a:stretch/>
        </p:blipFill>
        <p:spPr>
          <a:xfrm>
            <a:off x="5508720" y="3645000"/>
            <a:ext cx="3195720" cy="31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438280" y="765000"/>
            <a:ext cx="6400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новидностью «возвратного удара» считается прием «подхвата реплики». В ходе обсуждения спорных вопросов полемисты нередко бросают реплики разного характера, умение применить необходимую реплику, оказывает психологическое воздействие – действенный прием в полемик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ТЕХНИЧЕСКИЕ ПРИЕМЫ ВЕДЕНИЯ ПОЛЕМИКИ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емика – дискуссия по спорным, еще не решенным вопросам, предполагающую, наряду с обоснованием выдвинутых тезисов, критический взаимный анализ предлож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полемика не превратилась в борьбу амбиций, рекомендуется соблюдать следующие правил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438280" y="476280"/>
            <a:ext cx="6400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ходе аргументации только теми аргументами, которые вы и ваш оппонент понимаете одинаково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реуменьшайте значимость сильных аргументов оппонента, лучше подчеркивайте их важность и свое  правильное понимание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3890880"/>
            <a:ext cx="350532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72 E">
                                      <p:cBhvr>
                                        <p:cTn id="115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72 E">
                                      <p:cBhvr>
                                        <p:cTn id="117" dur="2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аничивайте количество своих аргументов. Излишняя убедительность всегда вызывает отпор, т.к. превосходство партнера в споре всегда обидно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е не только о плюсах своих предложений, но и о минусах. Этим вы придадите им большую объективность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уйте в качестве аргументов только те, которые принимает ваш оппонент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утайте факты и мнен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5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7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72 E">
                                      <p:cBhvr>
                                        <p:cTn id="129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438280" y="549000"/>
            <a:ext cx="6400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вайте аргументы, с уважением к оппоненту и к его позиции («друга убедить легче, чем врага»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сылки на авторитет, известный вам и вашему оппоненту, усиливают ваши аргументы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3435480"/>
            <a:ext cx="4788000" cy="34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72 E">
                                      <p:cBhvr>
                                        <p:cTn id="13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72 E">
                                      <p:cBhvr>
                                        <p:cTn id="13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 Black"/>
              </a:rPr>
              <a:t>Спасибо за внимание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ОПРОВЕРЖЕНИЕ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438280" y="1412640"/>
            <a:ext cx="640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оверж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азновидность доказательства, когда доказывается не истинность, а ложность суждения или неправильность самого доказательства. Опровержение, т.о., направлено на разрушение доказательства оппонен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17640" y="4352760"/>
            <a:ext cx="33289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казательство происходит по схеме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067280" y="2133720"/>
            <a:ext cx="237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95640" y="21337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вержение доводов оп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700360" y="4076640"/>
            <a:ext cx="1727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572000" y="4076640"/>
            <a:ext cx="1584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300720" y="4076640"/>
            <a:ext cx="1727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27280" y="414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овержение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4643280" y="4149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ка арг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00720" y="4149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тика демон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5219640" y="2781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564000" y="3429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56400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7093080" y="34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298440" y="1595520"/>
            <a:ext cx="3139920" cy="23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ОПРОВЕРЖЕНИЕ ТЕЗИС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ямо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ровержение показывает абсурдность утверждения оппонента. Это достигается следующим образом: «Предположим, что вы правы. Но тогда из вашего утверждения вытекает такое следствие, а из него еще одно. А это противоречит всем известному факту (называете)». Логической основой этого метода является тот факт, что ложные следствия свидетельствуют о ложности исходного тези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0" y="4886280"/>
            <a:ext cx="2952720" cy="197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"/>
          <p:cNvPicPr/>
          <p:nvPr/>
        </p:nvPicPr>
        <p:blipFill>
          <a:blip r:embed="rId2"/>
          <a:stretch/>
        </p:blipFill>
        <p:spPr>
          <a:xfrm>
            <a:off x="6434280" y="4840200"/>
            <a:ext cx="2741400" cy="2005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косвенном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доводе опровергающий вначале не касается тезиса, который хочет опровергнуть. Все силу идут на аргументацию собственного тезиса, который противоречит критикуемому. После того как удастся убедить в справедливости собственного тезиса, подводится итог: поскольку наш тезис доказан, а противоречит критикуемому, следовательно,  оппонент не пра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049480" cy="15984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"/>
          <p:cNvPicPr/>
          <p:nvPr/>
        </p:nvPicPr>
        <p:blipFill>
          <a:blip r:embed="rId2"/>
          <a:stretch/>
        </p:blipFill>
        <p:spPr>
          <a:xfrm>
            <a:off x="39600" y="438624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КРИТИКА АРГУМЕНТОВ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ика аргументов выражается в том, что оппоненту указывают на неточное изложение фактов, двусмысленность статистических данных, выражают сомнения в авторитарности эксперта, на заключение которого ссылается оппонент, и т.п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0" y="3981600"/>
            <a:ext cx="40672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1282e"/>
                </a:solidFill>
                <a:uFillTx/>
                <a:latin typeface="Arial Black"/>
              </a:rPr>
              <a:t>КРИТИКА ДЕМОНСТРАЦИИ</a:t>
            </a: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зывают, что в приведенных рассуждениях нет логической связи между аргументами и тезисом. Или вообще совершается логическая ошибка, нарушаются законы логики. Когда тезис не вытекает из аргументов, то он, естественно, объявляется недоказанны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4897440" y="4038480"/>
            <a:ext cx="41036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340000" y="228600"/>
            <a:ext cx="6624720" cy="118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1282e"/>
                </a:solidFill>
                <a:uFillTx/>
                <a:latin typeface="Arial Black"/>
              </a:rPr>
              <a:t>СИЛА МЕТОДОВ ОПРОВЕРЖЕНИЯ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27280" y="1557360"/>
            <a:ext cx="6400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ка аргументов и критика демонстрации сами по себе разрушают доказательство. Заявлять об опровержении тезиса противоположной стороны нельзя. О нем можно сказать, что он требует нового обоснования, т.к. опирается на неубедительные доводы или аргументы, не имеющие прямого отношения к тезис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0" y="4508640"/>
            <a:ext cx="2738520" cy="23335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" descr=""/>
          <p:cNvPicPr/>
          <p:nvPr/>
        </p:nvPicPr>
        <p:blipFill>
          <a:blip r:embed="rId2"/>
          <a:stretch/>
        </p:blipFill>
        <p:spPr>
          <a:xfrm>
            <a:off x="0" y="3240"/>
            <a:ext cx="2232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2:10:12Z</dcterms:created>
  <dc:creator>Dmitriy</dc:creator>
  <dc:description/>
  <dc:language>en-US</dc:language>
  <cp:lastModifiedBy>Базалий Раиса Викторовна</cp:lastModifiedBy>
  <dcterms:modified xsi:type="dcterms:W3CDTF">2015-12-10T06:25:21Z</dcterms:modified>
  <cp:revision>15</cp:revision>
  <dc:subject/>
  <dc:title>Опровержение доводов оппонента </dc:title>
</cp:coreProperties>
</file>